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9A58-62C5-4CA9-96A0-0B85C0342C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06B5-15EB-4F81-9154-72EDEB26D3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75E3-3143-4A44-B6B0-C1DE0511A8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AB22-AD47-4920-ABE4-475C45B96C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BDA8-1DEB-414B-852F-CFBD44F6DD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3AF8-C07C-407A-B768-A8EA887BE1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3A37-1DD4-45D2-BB5F-E0368DAB81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D2C3-0C68-4AF7-A34B-042196BAC0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BEC-9F5E-43B6-B328-2E0B8928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946-69EF-413A-A287-837602C8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0C1-EA26-43C0-9D16-E003E98E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BC6-F8A6-4180-A894-12975705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2D58-B8E5-42D1-8964-9F0000A1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1320-12D5-4DE9-B1C0-2C788BC8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ADA5-06B6-4FE3-B92B-20D4B97A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3D65-5FD1-46E3-97E4-F710D2C5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12BF-F514-4B27-B4F8-73162330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2278-F311-4493-A46A-CEFB6D0D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1376-B380-4DBE-B6C1-3C9446B0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147-AE5B-48D9-B0D3-60510F3E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B375-6661-4D32-9915-754136BF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9D83-55EB-43F4-86B7-1A8984C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2B08-2F1F-469B-AB01-D1184B5B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8C29-3C67-4216-B0D6-69C6422E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7D58-7343-4C66-8790-B239AB49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36D-1698-45FD-A180-475E3E24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157-B49B-47CA-911B-0F3E404B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F8E-1AB2-4D30-8F55-F76F1423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582-F8E6-40E1-B938-B7820618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71C-349F-4FCC-9ED8-957CA137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92A-DD69-4842-BA19-E4478F1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47A-AB4E-4946-9404-84D27562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4A2B-E248-4F1C-AB36-B131DFEEA1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258A-60CC-45BE-B272-3359B78095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deduca.wikispaces.com/" TargetMode="External"/><Relationship Id="rId2" Type="http://schemas.openxmlformats.org/officeDocument/2006/relationships/hyperlink" Target="http://educacionplasticayvisual.wikispaces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.juntadeandalucia.es/averroes/cppfelipe" TargetMode="External"/><Relationship Id="rId2" Type="http://schemas.openxmlformats.org/officeDocument/2006/relationships/hyperlink" Target="http://mutrayil.wikispaces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esumen.wikispaces.com/sextob0708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cionatural.wikispaces.com/Los+animale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engua_hawaiana" TargetMode="External"/><Relationship Id="rId2" Type="http://schemas.openxmlformats.org/officeDocument/2006/relationships/hyperlink" Target="http://es.wikipedia.org/wiki/Sitio_web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17120" y="2362320"/>
            <a:ext cx="41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Wik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plicación didác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de el punto de vista del doc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contenidos teóricos de la materia para consulta por parte de los alumno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actividades de 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en un proyecto común con otros do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a antología de textos de 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 listado de recursos on-line (para el alumnado o para otros doc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ahoma"/>
              </a:rPr>
              <a:t>Usos educ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91440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sde el punto de vista del alumn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lizar trabajos de manera colaborativa sobre cualquier tipo text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entar el contenido de un trabajo de investigación (contenido f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abo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o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u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66cc"/>
                </a:solidFill>
                <a:latin typeface="Arial"/>
              </a:rPr>
              <a:t>MODELOS DIDÁCTICO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793440"/>
            <a:ext cx="80773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Blog diario de clase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da día un grupo resume lo que se ha hecho en clase. El profesor lo revisa y valora. Útil para alumnos que no han asistido a clase, repasar temas, mostrar a las familias lo que se hace. Incluy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ejores trabajos de la cl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l profesor que los alumnos resolver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uestas para comentar o debatir un artículo, una noticia, una foto, un víde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olver una adivinanza o problema de múltiples solu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día un alumno escribe un fragmento más de una novela o 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Trabajos colaborativos con wi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iki del periódico esco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los lectores podrán dejar aportaci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eb del centro docente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 enlace a los wikis de profesores y a los wikis diario de clase (las familias pueden dejar comen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ERE MARQUES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73240" y="1981080"/>
            <a:ext cx="777240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ositorio de Recursos Edu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rededuca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tio web personal del profe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educacionplasticayvisual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trayil. Una recreación de Motril en la Eda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e espacio se dedica a documentar las investigaciones que el alumnado de 4º A y 4º B del </a:t>
            </a:r>
            <a:r>
              <a:rPr b="0" lang="es-ES" sz="1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CEIP Príncipe Felipe de Motril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ealiza para intentar conocer cómo era la vida en Mutrayil, Motril, en la época islámica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mutrayil.wikispace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resumen.wikispaces.com/sextob0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es en torno a libros en donde todos los alumnos colab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equeños trabajos de investigación </a:t>
            </a:r>
            <a:r>
              <a:rPr b="0" lang="es-ES" sz="16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http://socionatural.wikispaces.com/Los+animal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ema colaborativo en wiki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poemas.wikispaces.com/Deseamos+y+ofrec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Narraciones colaborativas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narradores.wikispaces.com/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05440" y="1523880"/>
            <a:ext cx="81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textoscolaborativos.wikispaces.com/Wikis+en+Lengua+y+Lit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14400" y="259092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rigido al profesorado de Lengua Castellana y Lit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cebido como una fuente de recursos para el trabajo sobre la ma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73240" y="29574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iki que refleja un trabajo colaborativo realizado por alumnos y alum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ruyeron una antología de poemas de la Generación del 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uvo un premio el año pa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143000" y="13716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antologiapoetica.wetpaint.com/?t=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wiki que está pensado para recoger producciones orales de los alumnos y alum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resultado de una secuencia didáctica los alumnos graban textos de 100 palabras y proponen actividades a sus compañ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alumnos desarrollan la competencia en comunicación lingüística y dig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001880" y="1371600"/>
            <a:ext cx="50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tienesunminuto.wetpaint.com/?t=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eb 2.0 : La nueva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ACTIVIDAD: Internet abandona su marcada unidireccionalidad y se orientan más a facilitar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áxima interacción entre los usuari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Pueden </a:t>
            </a:r>
            <a:r>
              <a:rPr b="1" i="1" lang="es-ES" sz="2000" spc="-1" strike="noStrike">
                <a:solidFill>
                  <a:srgbClr val="3366cc"/>
                </a:solidFill>
                <a:latin typeface="Arial"/>
              </a:rPr>
              <a:t>expresarse y opinar, buscar y recibir información de interés, colaborar y crear conocimiento, compart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CILIDAD PARA INTERVENIR: La plataforma de trabajo es la propia página web (no es necesario tener instalado un software cliente en el orden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43000" y="1676520"/>
            <a:ext cx="731520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poemasantologia.wikispace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 un wiki que recoge una antología de poemas elaborada a partir de una selección de poemas proporcionada por el profe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alumnos los han organizado por temas y los han ilustrado con imág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mbién han añadido vínculos para buscar información sobre sus au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7324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ágina web de centro con espacios para los departamentos con actividades y materiales para los alum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iesdolmendesoto.org/wiki/index.php/Por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ágina de recursos de un profesor de Lengua y Literatura. Contiene también actividades para los alum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littera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14300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ncular, no deben olvidar citar siempre las f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etar y así ser respe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ibir con legibilidad y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ar, adaptar, reutilizar los contenidos disponibles en la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ender el conocimiento l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tener espíritu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HEMOS DE LOGRAR QUE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os alumnos aprendan a...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 web 2.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9720" y="1447560"/>
            <a:ext cx="794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expresarse/crear y public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wik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publicar y buscar informac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podcas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YouTub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Flick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lideShar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acceder a información de interé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RS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XM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lin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GoogleRead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uscadores especializ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Redes soci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Ning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econd Lif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Twitt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calendarios, geolocalización, libros virtuales compartidos, noticias, ofimática on-line, plataformas de teleformación, pizarras digitales colaborativas on-line, portal personalizad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MPLICACIONES EDUCATIVAS DE LA WEB 2.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928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fácilment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crear conocimiento,   buscar información ,   compartir e interactuar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uede orientarse al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rabajo individual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también al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rabajo colabo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menta la motivación del alumnad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 utilizar medios que les atraen y les resultan atr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 ver sus aportaciones publicadas y visibles a nivel mu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 servir como mecanismo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unicación con las familia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genda, diario, publicación de trabajo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aborar materi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solo o en grupo), compartirlo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someternos a comentari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los lec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frec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pacios on-line para la public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conte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bilit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evas actividades de aprendizaje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q, cazas de tesoros, adm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bilit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evas formas de  evaluación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aluación compar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jora competencias digit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buscar, procesar, comunic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Un wiki (o una wiki) (del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awaiano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wiki wiki, «rápido») es un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sitio web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colaborativo que puede ser editado  </a:t>
            </a:r>
            <a:r>
              <a:rPr b="1" i="1" lang="es-ES" sz="3200" spc="-1" strike="noStrike" u="sng">
                <a:solidFill>
                  <a:srgbClr val="003366"/>
                </a:solidFill>
                <a:uFillTx/>
                <a:latin typeface="Tahoma"/>
              </a:rPr>
              <a:t>fácilmente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por vari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Diferencias entre un blog y un wiki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lo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do por ent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ácter más 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876920" y="1752480"/>
            <a:ext cx="3429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do por pág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ácter más dinámico,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ció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in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Ventajas educativ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9720" y="100008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tan fácil de usar que hace que el alumno se centre en el contenido y no en la tecn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bre nuevos espacios de comunicación entre profesores, alumnos, famili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a las capacidades sociales y de colaboración hu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menta el aprendizaje constructi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buen método para la realización de trabajos de creación, indagación y desarrollo de la capacidad de comuni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Ventajas educativ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00080" y="198108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a forma de romper los muros del aula. Lo que se hace en clase se continúa trabajando desde casa o desde otros espa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blicar, saberse leíd@, comentad@ y observad@ resulta estimul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di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068480" y="1428840"/>
            <a:ext cx="776916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1:36:52Z</dcterms:created>
  <dc:creator>cpr</dc:creator>
  <dc:description/>
  <dc:language>en-US</dc:language>
  <cp:lastModifiedBy>cpr</cp:lastModifiedBy>
  <dcterms:modified xsi:type="dcterms:W3CDTF">2010-01-13T12:39:18Z</dcterms:modified>
  <cp:revision>20</cp:revision>
  <dc:subject/>
  <dc:title>Presentación de PowerPoint</dc:title>
</cp:coreProperties>
</file>